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3535-344C-4096-93E6-4C37CE32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6A97-60FE-4712-852F-02691352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F7B2-9F18-4CC3-8186-DBBD570D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7EEF-B590-49D5-87F6-2AD7E865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BB3-77A0-4DA2-9B31-366C70B7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5D54-D0D8-44D6-980C-A183E470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62C-62C0-491B-8F9B-AC581D7C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8374-D533-469D-95CD-B0C67C10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534E-6908-41C2-9030-CFF8E15D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8E19-DD8A-4CD9-A47D-A84DB3CA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133-9750-4DCD-99D3-0C455656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8A4F-AF48-4B12-A508-D14CD049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3906-E591-4725-816C-1AC0A7D25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h02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89280" y="4762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395000" y="0"/>
            <a:ext cx="8235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Times New Roman"/>
                <a:cs typeface="Arabic Transparent"/>
              </a:rPr>
              <a:t>يسوع أنت إلهي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سوع أنت إلهي     حبك شافيَ الوح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تَ حبيبُ نفسي أبداً  يسوع أنتَ من أر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h10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08120" y="0"/>
            <a:ext cx="56001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سجدُ أمامَك إله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عترفُ بك ملك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ا هي حياتي في يدي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فعل بها ما تر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سوع أنت إلهي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بك شافيَ الوح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تَ حبيبُ نفسي أبداً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يسوع أنتَ من أريد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h0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809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80060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ال واملك على قلبي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توقُ إليكَ تع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ُرنِّم لك شفتاي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أُحبك للأبد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191120" y="458640"/>
            <a:ext cx="476388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نحني لاسمِكَ كل ركب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ويعترف كل لسان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سمك يسوع خلاصي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أردده في كل ح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سوع أنت إلهي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حبك شافيَ الوح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تَ حبيبُ نفسي أبداً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يسوع أنتَ من أر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h10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52:49Z</dcterms:created>
  <dc:creator>USER</dc:creator>
  <dc:description/>
  <dc:language>en-US</dc:language>
  <cp:lastModifiedBy>USER</cp:lastModifiedBy>
  <dcterms:modified xsi:type="dcterms:W3CDTF">2003-02-03T14:36:41Z</dcterms:modified>
  <cp:revision>3</cp:revision>
  <dc:subject/>
  <dc:title>PowerPoint Presentation</dc:title>
</cp:coreProperties>
</file>